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A4D-6B51-4B1B-A6D4-3E398AB7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9CC-6048-4FD6-BCE1-A8CFDEE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887-C83C-4B30-B17A-EFCFCDB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5E9-8B77-491E-8528-28940AE4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3F9F-9843-46F3-B2B8-756A5F89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DCBC-89E0-4431-B113-19D68F1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5BD-4040-4C3D-8FAA-E88E1053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ADF0-6F0D-4199-85EF-C627728E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620-B3BF-4FBE-864B-ECE75F2F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8EC-23A8-4546-BB6B-C30D954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171-7708-4A76-A8BB-15BC1B9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8DF-0F8F-4FB4-8902-5334F11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3654-81A1-4276-AB33-FCFB346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0B06-3370-4435-9D57-2E0FB28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1FB-3BF7-4413-AFE8-EE1AEB2B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8592-2EC1-4EC0-9DC7-0B5AB941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8CDC-2564-42D6-B17D-14F911C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651-8345-4C17-8B0C-8C43D03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2AB-8D4C-492E-BBBB-D4B0F5D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578-2620-4A22-A02F-1FEBD038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999-89D9-4368-BEA2-8AE87AF6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59B-C8D4-45C5-8A9D-E4FD98C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4F2-11E9-4507-9AB0-8F90681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399-D4E8-47F1-BFFF-A5A5A24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37E-571C-40AB-86F6-2F6A999FD194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D384-F80B-405E-8581-393C0E6C194F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f261e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f261e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youtube.com/watch?v=p8Znh9Mux_4" TargetMode="External"/><Relationship Id="rId2" Type="http://schemas.openxmlformats.org/officeDocument/2006/relationships/hyperlink" Target="http://youtube.com/watch?v=p8Znh9Mux_4" TargetMode="External"/><Relationship Id="rId3" Type="http://schemas.openxmlformats.org/officeDocument/2006/relationships/hyperlink" Target="http://youtube.com/watch?v=p8Znh9Mux_4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Evangelin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2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ongs From Quebec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hantal Crandall Fr.4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La Légende D’Evangeline et Gabriel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Évangeline Bellefontaine et Gabriel Lajeunesse a habités à Acadia. Ils étaient amoureux. Évangeline et Gabriel ont été fiancé. Sur le jour de son mariage, ils séparaient, et envoyer à l’Amerique. 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vangeline est allée à Louisiana, et Gabriel est allé à Philadelphia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La Légende D’Evangeline et Gabriel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Évangeline a recherché pour Gabriel. Evangeline trouvera Gabriel, avant il mourirait. 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Gabriel est mort dans les bras de Evangeline. Elle était trés triste, et elle est mort peu après Gabriel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a Histoire d’Acadia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l est essential que nous sachions la legende de Evangeline. La legende aide comprendre la chanson, et les Quebecois sentiments, et ils histoire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À 1755 les français expulsent des britanniques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Beacoup personnes est allé à Louisiana.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“</a:t>
            </a: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Mais les Anglais sont arrivés…”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l semble que cette pièce décrit une attaque du britanniques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st-il juste que les Acadians attaque et envoyer à l’Amerique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Car l’océan parle de toi, </a:t>
            </a:r>
            <a:br>
              <a:rPr sz="2800"/>
            </a:b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Les vents du sud portent ta voix,</a:t>
            </a:r>
            <a:br>
              <a:rPr sz="2800"/>
            </a:b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De la forêt jusqu’à la plaine…”</a:t>
            </a:r>
            <a:br>
              <a:rPr sz="2800"/>
            </a:b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st-il possible que cette décrit l’esprit du paysage naturel?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Le Quebec a beau paysage natuel, comme tel que l’ocean, et la forê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Evangelin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vangeline est le caractère avec l’esprit du Quebec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lle a combativité l’esprit for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 Quebecois lutte, ils seront libre du Canada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Video de Musique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1"/>
              </a:rPr>
              <a:t>YouTube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2"/>
              </a:rPr>
              <a:t> - Evangeline a la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Garamond"/>
                <a:hlinkClick r:id="rId3"/>
              </a:rPr>
              <a:t>fureur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1:02Z</dcterms:created>
  <dc:creator>Linda Crandall</dc:creator>
  <dc:description/>
  <cp:keywords/>
  <dc:language>en-US</dc:language>
  <cp:lastModifiedBy>Linda Crandall</cp:lastModifiedBy>
  <dcterms:modified xsi:type="dcterms:W3CDTF">2007-01-11T15:51:02Z</dcterms:modified>
  <cp:revision>7</cp:revision>
  <dc:subject/>
  <dc:title>Evange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33</vt:lpwstr>
  </property>
</Properties>
</file>